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7BB-3013-4BE6-B3AC-AEBB592D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CE0-2B5D-4AE9-B439-9A3AB455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BD7-CB70-44A4-ABE3-3F5B6C4D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B7C-52F3-4B83-9AE8-DED77509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A3B2-58B6-4A21-86BE-FE3F9ECA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AA38-8533-44CB-A485-988CF8F9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2308-2F64-488A-8F7E-46592626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3772-14C1-4144-9B0F-79A66416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FBCD-AE00-43E9-B607-571D112D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C2D2-CE47-4E31-9EE9-1E715109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21CB-870E-4D04-96EB-A81889D4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1A2-F890-4BE9-93E9-F8EEF35E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12E0-CEAF-4498-BE04-4E4F7300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D2F1-51FA-4164-8BA7-5576EA08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2023-A470-4407-BDA1-0F43DD08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C6BA-0B00-4147-821E-1092B15B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0E13-CB07-4A19-9E39-30EFAFDE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AEA-8CBB-4F51-930F-6F60FC44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289-D421-4A31-A7C2-8CEC6851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5DB-8B70-4919-9055-6C2A2A5C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B5F-3FBA-4D96-A606-B9F3E66F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FE3-05D6-4F18-86F4-C7E46B4D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6F6-E1B0-4D57-A65C-02EAC519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61F-601F-427E-9CA4-9F16F383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F865-8620-4618-8D18-B21626D89F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5F74-5D72-42FE-AC48-B1E83F57919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ience.howstuff.works.com/oil-refining2.ht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1752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Bookman Old Style"/>
              </a:rPr>
              <a:t>Oil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How “Black Gold” Has Shaped Southwest As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380988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10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Bookman Old Style"/>
              </a:rPr>
              <a:t>Terms to Know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il reser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crude 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refine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non-renewable re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renewable re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developed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-alternativ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g.357-35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Bookman Old Style"/>
              </a:rPr>
              <a:t>1.  Write your term her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2.  Define your term in this box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14720" y="1980720"/>
            <a:ext cx="3695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3.  Draw / illustrate your term in this bo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050840" y="4264200"/>
            <a:ext cx="352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4.  Write two pieces of information about your 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37040" y="4222800"/>
            <a:ext cx="36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4.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“Your term”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is related to</a:t>
            </a: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“your partner’s term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because…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14400" y="1676520"/>
          <a:ext cx="7772040" cy="4647600"/>
        </p:xfrm>
        <a:graphic>
          <a:graphicData uri="http://schemas.openxmlformats.org/drawingml/2006/table">
            <a:tbl>
              <a:tblPr/>
              <a:tblGrid>
                <a:gridCol w="3885840"/>
                <a:gridCol w="3886200"/>
              </a:tblGrid>
              <a:tr h="23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Bookman Old Style"/>
              </a:rPr>
              <a:t>Oil Refinery Anim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Bookman Old Style"/>
                <a:hlinkClick r:id="rId1"/>
              </a:rPr>
              <a:t>http://science.howstuffworks.com/oil-refining2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Bookman Old Style"/>
              </a:rPr>
              <a:t>The Middle Ea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05320" y="1733400"/>
            <a:ext cx="5333760" cy="4667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1905120"/>
            <a:ext cx="2666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y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ra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r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Kuw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Saudi Arab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ah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Qa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United Arab Emir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O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Ye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*</a:t>
            </a:r>
            <a:r>
              <a:rPr b="0" i="1" lang="en-US" sz="1800" spc="-1" strike="noStrike">
                <a:solidFill>
                  <a:srgbClr val="ffffff"/>
                </a:solidFill>
                <a:latin typeface="Bookman Old Style"/>
              </a:rPr>
              <a:t>These 10 countries contain about half of the world’s known oil reserv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Bookman Old Style"/>
              </a:rPr>
              <a:t>Worldwide Demand for Oil is High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Crude oil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is the unrefined form of petroleum pulled from the gro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hat do we use oil for?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Developed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countries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use it for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ranspor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wer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onsumer products-(some of the things that we buy at the st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eaea"/>
                </a:solidFill>
                <a:uFillTx/>
                <a:latin typeface="Bookman Old Style"/>
              </a:rPr>
              <a:t>Crude Oi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ray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lasti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heating o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jet fu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keros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gasolin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ir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9680" y="1981080"/>
            <a:ext cx="370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oofing shing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aspha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clo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erfu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medic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ynthetic fi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4032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371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Bookman Old Style"/>
              </a:rPr>
              <a:t>Is the Raw Material Used To Ma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Bookman Old Style"/>
              </a:rPr>
              <a:t>Demand for Oil Has Brought Wealth to This Reg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ities and culture that have been around for centuries have changed in just a few dec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3200400" cy="2439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95280" y="5638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 port city in Dubai, UAE forty years 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2880" y="302904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077800" y="571500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 city in Dubai, UAE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96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Bookman Old Style"/>
              </a:rPr>
              <a:t>Dubai – </a:t>
            </a:r>
            <a:r>
              <a:rPr b="1" lang="en-US" sz="3200" spc="-1" strike="noStrike">
                <a:solidFill>
                  <a:srgbClr val="eaeaea"/>
                </a:solidFill>
                <a:latin typeface="Bookman Old Style"/>
              </a:rPr>
              <a:t>A City of Wealth/Growth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572000" cy="277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914400" y="4724280"/>
            <a:ext cx="2895480" cy="1944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114800" y="4724280"/>
            <a:ext cx="2666880" cy="190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914400" y="1828800"/>
            <a:ext cx="2781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Bookman Old Style"/>
              </a:rPr>
              <a:t>Alternatives to Oi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il is a </a:t>
            </a:r>
            <a:r>
              <a:rPr b="0" i="1" lang="en-US" sz="3200" spc="-1" strike="noStrike">
                <a:solidFill>
                  <a:srgbClr val="ffffff"/>
                </a:solidFill>
                <a:latin typeface="Bookman Old Style"/>
              </a:rPr>
              <a:t>non-renewable resou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hen it runs out…we’re out of lu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We have to start our transition to alternative energy 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Like….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Bookman Old Style"/>
              </a:rPr>
              <a:t>Alternatives to Oi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4920" y="4190760"/>
            <a:ext cx="1600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olar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438280" cy="2149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2011320" cy="2900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15000" y="1905120"/>
            <a:ext cx="3228840" cy="2412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525480" y="487692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Wind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8760" y="4311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Hydro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Bookman Old Style"/>
              </a:rPr>
              <a:t>Alternatives to Oi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2743200" cy="241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63760" y="426708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Geothermal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2819520" cy="2444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8800" y="438768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uclear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6:10:16Z</dcterms:created>
  <dc:creator> </dc:creator>
  <dc:description/>
  <dc:language>en-US</dc:language>
  <cp:lastModifiedBy>Brian Lytle</cp:lastModifiedBy>
  <dcterms:modified xsi:type="dcterms:W3CDTF">2009-04-08T02:30:00Z</dcterms:modified>
  <cp:revision>8</cp:revision>
  <dc:subject/>
  <dc:title>Slide 1</dc:title>
</cp:coreProperties>
</file>